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623-BC32-47DB-A55A-83026595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407-A571-4009-AC31-CE3AB52B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480-2949-49B4-B960-3271C510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2A3-727D-4700-87F7-F12A6A55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FC3-109F-468C-BA75-302EBE62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AD5-6A50-4BAE-86DE-D52FB99A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E73-DA3D-421B-81CF-C71057D4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954-7094-44AA-8DA7-3F0C9E7D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A2D-BF6B-43C8-9647-18BDBB7F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3315-9E48-403C-8F65-F6D70A59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BE0-3D7A-49AB-ACA1-7197A83A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B76-B0C9-4BC4-93F5-D5D2C3B9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3903-6DBD-40DF-93CA-81BE5312A189}" type="datetime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40B9-1D8D-494C-BB77-5474DAD43F51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1/1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ystem architectur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team overview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ascal Lefè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CTM IPM TPS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.0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General topics inside system architectur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Malpha coordination &amp;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alf Oberheim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Palpha coordination &amp;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ans-Georg Kell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Apoxi/Infineon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W: Dietrich Olf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: Ralf Oberheim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Brew/Qualcomm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W: Martin Kolde (starting 15.03.2006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: Support by Uwe Hebd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TTPCom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Gerald Stöck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OpenPlug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alf Kaisl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echnology cluster mapp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825480"/>
          <a:ext cx="8207280" cy="513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25480"/>
                    <a:ext cx="820728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804000" y="6021360"/>
          <a:ext cx="914400" cy="714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602136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ajor challenges for System architectur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Merger from HW and SW system architecture to one operational organization to focus an system issue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Build bridge between technology clusters and platform architecture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eature breakdown to architectural component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easibility support for M</a:t>
            </a:r>
            <a:r>
              <a:rPr b="0" lang="en-US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Arial Unicode MS"/>
              </a:rPr>
              <a:t> proces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Arial Unicode MS"/>
              </a:rPr>
              <a:t>Platform screening and evaluation for P</a:t>
            </a:r>
            <a:r>
              <a:rPr b="0" lang="el-GR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Arial Unicode MS"/>
              </a:rPr>
              <a:t> proces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pic list for System architecture (over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ase band chipse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latform mapping and BSF feasibility check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ultimedia/Imaging/HW Accelerato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ecurit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asic platform framework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ssaging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rows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onnectivit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udio/Speech technolog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pplication environ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Java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ustomiza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Factory/Servic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tocol stack termination/Telephon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3716280"/>
            <a:ext cx="1154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869000"/>
            <a:ext cx="4105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3716280"/>
            <a:ext cx="11538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3716280"/>
            <a:ext cx="7128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3840" y="4797360"/>
            <a:ext cx="83534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ystem architecture area of work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01080" y="5877000"/>
            <a:ext cx="5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2360" y="4005360"/>
            <a:ext cx="68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M/U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St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3789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3789360"/>
            <a:ext cx="50184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rastru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59280" y="450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66920" y="2708280"/>
            <a:ext cx="64764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2340000"/>
            <a:ext cx="648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981000"/>
            <a:ext cx="505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, Organiz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rds, Categ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4836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3213000"/>
            <a:ext cx="936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2347920"/>
            <a:ext cx="1223640" cy="7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2349360"/>
            <a:ext cx="57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2349360"/>
            <a:ext cx="36036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work incl. 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276640"/>
            <a:ext cx="835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28464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75280" y="981000"/>
            <a:ext cx="3618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C, VoIP,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981000"/>
            <a:ext cx="2174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96360" y="981000"/>
            <a:ext cx="215640" cy="1152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 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907920"/>
            <a:ext cx="83534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198900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820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57120" y="126828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84720" y="4869000"/>
            <a:ext cx="43200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play, Camer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ypad,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03640" y="4869000"/>
            <a:ext cx="432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87680" y="4869000"/>
            <a:ext cx="1443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ic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ystem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3789360"/>
            <a:ext cx="50616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4869000"/>
            <a:ext cx="36036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3344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aus Zap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3596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trich Ol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34880" y="54936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ald Stöck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2360" y="549360"/>
            <a:ext cx="114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ven Pa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3214800"/>
            <a:ext cx="86364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3214800"/>
            <a:ext cx="936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40360" y="2349360"/>
            <a:ext cx="1223640" cy="781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2351160"/>
            <a:ext cx="57636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8200" y="379080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33800" y="549360"/>
            <a:ext cx="11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lf Kais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71640" y="981000"/>
            <a:ext cx="50508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, Organiz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rds, Categ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2349360"/>
            <a:ext cx="36036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work incl. 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75280" y="981000"/>
            <a:ext cx="3618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C, VoIP,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981000"/>
            <a:ext cx="21744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34160" y="549360"/>
            <a:ext cx="165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khard Düm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3790800"/>
            <a:ext cx="863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2709720"/>
            <a:ext cx="6476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2341440"/>
            <a:ext cx="6480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03640" y="4870440"/>
            <a:ext cx="43200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4880" y="5493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Kol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33800" y="549360"/>
            <a:ext cx="140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ürgen Rie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5240" y="549360"/>
            <a:ext cx="177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s-Georg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4880" y="549360"/>
            <a:ext cx="138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hard Z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34880" y="549360"/>
            <a:ext cx="180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land Djerm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3800" y="549360"/>
            <a:ext cx="121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rich Hu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34880" y="549360"/>
            <a:ext cx="196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hael Scheitha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6165720"/>
            <a:ext cx="273708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ntionally not in TPS 4 fo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6381720"/>
            <a:ext cx="27370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ssing expertise or headcount within TPS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6597720"/>
            <a:ext cx="273708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pic covered by listed TPS 4 employ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Dietrich Olf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Explorer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 App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tent Mgr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RM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atab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Gerald Stöck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ial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essag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el. Serv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PS Termin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alf Kaisl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ulti Media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udio Policy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Voice Contro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dec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OS Kerne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Burkhard Düml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Brows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PIM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LB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M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MS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Martin Kold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P Protoco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(OS Layer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Klaus Zapp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hem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tartup/Mod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ustomiz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ppl.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ync Servi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evice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Widget Lib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Jürgen Riepe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ootco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Non Consumer Driv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ustomized Driv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ccessor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Hans-Geog K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ase Ban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Gerhard Z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2G, 2.5G, 3G RF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M-Ra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ntenna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Roland Djermest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GSM/UMTS PS Stac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 Rou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Jav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Ulrich Hub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ower Mgm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 H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enso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Michael Scheithau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ame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Vide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DVB-H, DAB, DMB,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 acc. 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ross cutting issu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 footprint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de size RAM, RO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eap siz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emory consumption for appl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erformance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alf Oberheim</a:t>
            </a: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ystem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ulti media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chael Scheithau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ower consump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lrich Huber (acting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verall targets for platform provid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of target corridor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Guidelines for usage concep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xception handling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Jürgen Riepe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ccessorie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oland Djermest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etwork Protocol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rtin Kold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Number of implementations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ook and Feel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Klaus Zapp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ustomiza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Klaus Zapp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IPI standardization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upport by Uwe Hebd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ascal Lefevre</cp:lastModifiedBy>
  <dcterms:modified xsi:type="dcterms:W3CDTF">2006-01-27T17:08:59Z</dcterms:modified>
  <cp:revision>142</cp:revision>
  <dc:subject/>
  <dc:title>PowerPoint 簡報</dc:title>
</cp:coreProperties>
</file>